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applause.wav" ContentType="audio/x-wav"/>
  <Override PartName="/ppt/media/drumroll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wmf" ContentType="image/x-wmf"/>
  <Override PartName="/ppt/media/wind.wav" ContentType="audio/x-wav"/>
  <Override PartName="/ppt/media/whoosh.wav" ContentType="audio/x-wav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0F9-2650-4F8C-B171-13752629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EF3-EA17-4BF3-8ADA-D5F829E3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743E-070F-416D-A1DF-D49CFB91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101-B4BE-4D2B-A024-BA921E66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28D0A-2AEC-4D8E-83F5-B2D5DC58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A2C67-17B0-43E5-AD1B-FF4D1A59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0901F-ABD5-4DF8-AE51-F6FC1CFD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B6C0B-1F83-4C79-9346-0C2A26B8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BE8A1-AC2D-4E3E-9A3E-6F895DBF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2EE04-0F70-4623-A353-FB85AA39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D44BF-7D6B-401E-807A-830246E3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F60-5EE7-4AD1-A6C4-A34C296D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C0305-D555-41B2-B349-C9F2A795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1F931-7E74-47DD-9192-BE244A9A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D1F87-DB11-420C-A397-172A9F12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E130D-7345-4E44-96C1-6875B843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097A4-AE53-4D53-9825-0BE5111C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C28-9EF1-402F-A5B4-654478F0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994-84B2-4518-AA06-ACE38A6A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D1D-7ADD-403B-8ABF-D1062344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EEF-ECEE-4153-B7CB-AFBFF9A0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0BC-0D87-4977-9B93-D03AB2EF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285-B056-4C1F-BD09-1F16C340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88F-E8FD-4AFD-81A7-56E50C38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CDDE-4598-42EA-B7A0-D643A66FB7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F6CB-51CF-4FFE-9214-C93E7A8663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image" Target="../media/image5.jpeg"/><Relationship Id="rId9" Type="http://schemas.openxmlformats.org/officeDocument/2006/relationships/slide" Target=""/><Relationship Id="rId10" Type="http://schemas.openxmlformats.org/officeDocument/2006/relationships/image" Target="../media/image6.jpeg"/><Relationship Id="rId11" Type="http://schemas.openxmlformats.org/officeDocument/2006/relationships/audio" Target="../media/drumroll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audio" Target="../media/wind.wav"/><Relationship Id="rId1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2.jpeg"/><Relationship Id="rId8" Type="http://schemas.openxmlformats.org/officeDocument/2006/relationships/audio" Target="../media/chimes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image" Target="../media/image3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image" Target="../media/image4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5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slide" Target="slide31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2.xml"/><Relationship Id="rId11" Type="http://schemas.openxmlformats.org/officeDocument/2006/relationships/image" Target="../media/image6.jpe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BD Quattra"/>
              </a:rPr>
              <a:t>Step Up To:  Psychology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BD Quattra"/>
              </a:rPr>
              <a:t>by John J. Schulte, Psy.D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352680" y="396216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D Quattra"/>
              </a:rPr>
              <a:t>Psychology</a:t>
            </a:r>
            <a:r>
              <a:rPr b="0" lang="en-US" sz="2800" spc="-1" strike="noStrike">
                <a:solidFill>
                  <a:srgbClr val="ffffff"/>
                </a:solidFill>
                <a:latin typeface="BD Quattra"/>
              </a:rPr>
              <a:t>, Eighth E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D Quattra"/>
              </a:rPr>
              <a:t>By David G. M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D Quattra"/>
              </a:rPr>
              <a:t>Worth Publis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D Quattra"/>
              </a:rPr>
              <a:t>(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124080"/>
            <a:ext cx="28386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3. Phillip Zimbardo conducted the Stanford Prison Experiment in the 70’s.  His results could have predicted problems of prisoner abuse at Abu Ghraib in that: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960" y="2286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people will follow direct orders of a superior when in the milit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when we play a role long enough, social norms can be as powerful as 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we will easily scapegoat those different from our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people can not resist pressure to perform evil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4. When we experience _____, we feel tension when our actions do not coincide with our beliefs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gnitive disson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actor-observer discrepa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personal percep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self-serving b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e3e3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hen we experience cognitive dissonance, the response is most often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o change our behavior to agree with our attitu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depression and self hat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to change our attitudes in the direction of ou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to feel extremely guilty for acting  against our belie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6. Solomon Asch’s experiment about how perceptions may be influenced by others resulted in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more than a third of the people changing their opinions to agree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most people changing their opinions to agree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most everyone ignored what others s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a small minority changed their opinions to agree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7. For teens, it is especially important to dress and act like their peers in order to be accepted by the group.  This pressure to conform is called: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informational social influ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ethnocentr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out-group homogene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normative social influ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8. The results of Milgram’s experiment found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the subjects who continued knew it wasn’t re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most subjects discontinued when shock levels became extre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most subjects continued to deliver the highest level of sh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ubjects had to be threatened to deliver dangerous levels of sh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500"/>
                            </p:stCondLst>
                            <p:childTnLst>
                              <p:par>
                                <p:cTn id="7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9.  Further experiments by Milgram helped to identify factors influencing the outcome of destructive obedience.  These included all of the following </a:t>
            </a:r>
            <a:r>
              <a:rPr b="0" i="1" lang="en-US" sz="3200" spc="-1" strike="noStrike">
                <a:solidFill>
                  <a:srgbClr val="e3e3ff"/>
                </a:solidFill>
                <a:latin typeface="Arial"/>
              </a:rPr>
              <a:t>except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hey volunteered to particip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being told the learners were not really being har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the repetitive escalation of the ta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the situation, or context, in which the obedience occu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0.  Milgram did not require his subjects to shock people at the highest level at the beginning, but to build up to it.  He used the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2819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cognitive dissonance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oot-in-the-door phenomen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normative social influ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ocial exchange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1. According to social facilitation, if you are a professional golfer, you are likely to perform better if: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you are playing alone with a friendly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no one is watc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you are playing by your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you are playing against competition with a friendly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2. When people are working in a group on a project rather than individually, there is likely to be less effort by some, called: 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ocial loaf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competi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elf-serving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cognitive disson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harlesworth"/>
              </a:rPr>
              <a:t>Chapter 18: Social Psycholog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3962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harlesworth"/>
              </a:rPr>
              <a:t>Social Thin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2590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harlesworth"/>
              </a:rPr>
              <a:t>You’ve got an Att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harlesworth"/>
              </a:rPr>
              <a:t>Con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8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harlesworth"/>
              </a:rPr>
              <a:t>It’s just nat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648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harlesworth"/>
              </a:rPr>
              <a:t>Do the right t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304920" y="457200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2057400" y="320040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5" action="ppaction://hlinksldjump"/>
          </p:cNvPr>
          <p:cNvSpPr/>
          <p:nvPr/>
        </p:nvSpPr>
        <p:spPr>
          <a:xfrm>
            <a:off x="3809880" y="1828800"/>
            <a:ext cx="1524240" cy="129528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7" h="21600">
                <a:moveTo>
                  <a:pt x="0" y="0"/>
                </a:moveTo>
                <a:lnTo>
                  <a:pt x="25417" y="0"/>
                </a:lnTo>
                <a:lnTo>
                  <a:pt x="25417" y="21600"/>
                </a:lnTo>
                <a:lnTo>
                  <a:pt x="0" y="21600"/>
                </a:lnTo>
                <a:close/>
              </a:path>
              <a:path fill="lightenLess" w="25417" h="21600">
                <a:moveTo>
                  <a:pt x="0" y="0"/>
                </a:moveTo>
                <a:lnTo>
                  <a:pt x="25417" y="0"/>
                </a:lnTo>
                <a:lnTo>
                  <a:pt x="24017" y="1400"/>
                </a:lnTo>
                <a:lnTo>
                  <a:pt x="1400" y="1400"/>
                </a:lnTo>
                <a:close/>
              </a:path>
              <a:path fill="darken" w="25417" h="21600">
                <a:moveTo>
                  <a:pt x="25417" y="0"/>
                </a:moveTo>
                <a:lnTo>
                  <a:pt x="25417" y="21600"/>
                </a:lnTo>
                <a:lnTo>
                  <a:pt x="24017" y="20200"/>
                </a:lnTo>
                <a:lnTo>
                  <a:pt x="24017" y="1400"/>
                </a:lnTo>
                <a:close/>
              </a:path>
              <a:path fill="darkenLess" w="25417" h="21600">
                <a:moveTo>
                  <a:pt x="25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7" y="20200"/>
                </a:lnTo>
                <a:close/>
              </a:path>
              <a:path fill="lighten" w="25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638680" y="320040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9" action="ppaction://hlinksldjump"/>
          </p:cNvPr>
          <p:cNvSpPr/>
          <p:nvPr/>
        </p:nvSpPr>
        <p:spPr>
          <a:xfrm>
            <a:off x="7391520" y="5105520"/>
            <a:ext cx="1447560" cy="1295280"/>
          </a:xfrm>
          <a:custGeom>
            <a:avLst/>
            <a:gdLst>
              <a:gd name="textAreaLeft" fmla="*/ 83880 w 1447560"/>
              <a:gd name="textAreaRight" fmla="*/ 1363680 w 14475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39" h="21600">
                <a:moveTo>
                  <a:pt x="0" y="0"/>
                </a:moveTo>
                <a:lnTo>
                  <a:pt x="24139" y="0"/>
                </a:lnTo>
                <a:lnTo>
                  <a:pt x="24139" y="21600"/>
                </a:lnTo>
                <a:lnTo>
                  <a:pt x="0" y="21600"/>
                </a:lnTo>
                <a:close/>
              </a:path>
              <a:path fill="lightenLess" w="24139" h="21600">
                <a:moveTo>
                  <a:pt x="0" y="0"/>
                </a:moveTo>
                <a:lnTo>
                  <a:pt x="24139" y="0"/>
                </a:lnTo>
                <a:lnTo>
                  <a:pt x="22739" y="1400"/>
                </a:lnTo>
                <a:lnTo>
                  <a:pt x="1400" y="1400"/>
                </a:lnTo>
                <a:close/>
              </a:path>
              <a:path fill="darken" w="24139" h="21600">
                <a:moveTo>
                  <a:pt x="24139" y="0"/>
                </a:moveTo>
                <a:lnTo>
                  <a:pt x="24139" y="21600"/>
                </a:lnTo>
                <a:lnTo>
                  <a:pt x="22739" y="20200"/>
                </a:lnTo>
                <a:lnTo>
                  <a:pt x="22739" y="1400"/>
                </a:lnTo>
                <a:close/>
              </a:path>
              <a:path fill="darkenLess" w="24139" h="21600">
                <a:moveTo>
                  <a:pt x="24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9" y="20200"/>
                </a:lnTo>
                <a:close/>
              </a:path>
              <a:path fill="lighten" w="24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62520" y="464832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du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5486400"/>
            <a:ext cx="53352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5257800"/>
            <a:ext cx="53352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5486400"/>
            <a:ext cx="53352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5715000"/>
            <a:ext cx="53352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5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999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498"/>
                            </p:stCondLst>
                            <p:childTnLst>
                              <p:par>
                                <p:cTn id="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997"/>
                            </p:stCondLst>
                            <p:childTnLst>
                              <p:par>
                                <p:cTn id="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3. When a group’s goal of harmony takes precedence over rational decision-making, they become involved in the process of: 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077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ocial cogni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group polariz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group thin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fundamental attribution er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500"/>
                            </p:stCondLst>
                            <p:childTnLst>
                              <p:par>
                                <p:cTn id="9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4. An example of group polarization i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nservatives become more extreme after listening to conservative talk ra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people believing they were abducted become more convinced after chatting on the internet with other abduct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prejudiced individuals get together and become more prejudi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all of the ab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7860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500"/>
                            </p:stCondLst>
                            <p:childTnLst>
                              <p:par>
                                <p:cTn id="9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500"/>
                            </p:stCondLst>
                            <p:childTnLst>
                              <p:par>
                                <p:cTn id="9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5. When people lose themselves when in an angry mob, this illustrates the process of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elf-serving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deindivid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group thin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actor-observer discrepanc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9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6. Prejudice is defined a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aking negative action toward people who belong to a different social 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speaking badly about people who belong to a different social 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an unjustifiable attitude toward a group and its me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all of the ab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7.  The _____ theory offers an explanation that prejudice offers an outlet for anger by providing someone to blame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capeg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prejud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underd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out-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18. Rape victims are sometimes blamed for wearing too revealing clothes and, “getting what they deserved.”  This false conclusion is based on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the just-world hypothes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undamental attribution er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ocial categoriz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ocial exchange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9. Recent experiments of men viewing violent pornography conclude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his can serve to provide an outlet for bottled-up feelings, thus reducing violent a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this increases violent acts toward wo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there is no effect from viewing violent pornograp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men viewing such films are quickly repulsed by such im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0.  “By pursuing our own self-interests and not trusting others, we can end up losers.”  This statement is illustrated in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the Jigsaw Classroo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the in-group, out-group stud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Zimbardo’s prison experi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the social trap g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1. The deep, affectionate attachment in a lasting, mature love is called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passionate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marital bli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companionate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altru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0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2.  Your text mentions two key ingredients to a lasting, loving relationship.  One is equity, the other is: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attractive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compa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elf-disclos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accept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4952880"/>
            <a:ext cx="7315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4114800"/>
            <a:ext cx="624852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200400"/>
            <a:ext cx="51055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2286000"/>
            <a:ext cx="381024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6172200" y="1371600"/>
            <a:ext cx="25909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609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Charlesworth"/>
              </a:rPr>
              <a:t>Social Th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28600" y="1143000"/>
            <a:ext cx="327672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23. Kitty Genovese was killed while others watched and listened.  They knew others were watching.  Their behavior is explained the: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apathy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prosocial behavior phenomen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altru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bystander effe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4: According to the bystander effect, if you needed help you would be more likely to get it if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many people were pre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ew people were pre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omeone else was also help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no one knew 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5. According to social exchange theory: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we will help if we expect something in retur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we will help if the cost of helping is not too hi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when we help others we expect them to help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we help those who we feel are   most deserv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0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"/>
                            </p:stCondLst>
                            <p:childTnLst>
                              <p:par>
                                <p:cTn id="1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447920"/>
            <a:ext cx="815328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ngratulations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7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9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1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52480" y="762120"/>
            <a:ext cx="55627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nswer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4648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here, or continue as a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1. While watching a homeless person beg on the street corner, George thinks, “He must be lazy.  If he would just get a job, he wouldn’t have to beg.”  It is likely George is illustrating: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good judg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undamental attribution er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political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tereotyp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772400" y="517860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0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. Asking for a small favor to increase your chances of being successful when asking for a larger one later is called: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bait-and-switch techniq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a con-artist strateg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attitude adjust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the foot-in-the-door phenomen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0" dur="2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3. Phillip Zimbardo conducted the Stanford Prison Experiment in the 70’s.  His results could have predicted problems of prisoner abuse at Abu Ghraib in that: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960" y="2362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people will follow direct orders of a superior when in the milit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when we play a role long enough, social norms can be as powerful as 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we will easily scapegoat those different from our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people can not resist pressure to perform evil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0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9" dur="2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4. When we experience _____, we feel tension when our actions do not coincide with our beliefs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6781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cognitive disson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actor-observer discrepanc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personal percep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elf-serving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0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8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e3e3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hen we experience cognitive dissonance, the response is most often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o change our behavior to agree with our attitu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depression and self hat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to change our attitudes in the direction of ou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to feel extremely guilty for acting  against our belie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0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7" dur="2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4952880"/>
            <a:ext cx="7315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4114800"/>
            <a:ext cx="624852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3200400"/>
            <a:ext cx="51055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286000"/>
            <a:ext cx="381024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rId5" action="ppaction://hlinksldjump"/>
          </p:cNvPr>
          <p:cNvSpPr/>
          <p:nvPr/>
        </p:nvSpPr>
        <p:spPr>
          <a:xfrm>
            <a:off x="6172200" y="1371600"/>
            <a:ext cx="25909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480" y="3049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Charlesworth"/>
              </a:rPr>
              <a:t>You’ve got attitu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304920" y="914400"/>
            <a:ext cx="32763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6. Solomon Asch’s experiment about how perceptions may be influenced by others resulted in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more than a third of the people changing their opinions to agree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most people changing their opinions to agree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most everyone ignored what others s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a small minority changed their opinions to agree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2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7. For teens, it is especially important to dress and act like their peers in order to be accepted by the group.  This pressure to conform is called: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informational social influ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ethnocentr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out-group homogene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normative social influ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4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8. The results of Milgram’s experiment found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the subjects who continued knew it wasn’t re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most subjects discontinued when shock levels became extre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most subjects continued to deliver the highest level of sh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ubjects had to be threatened to deliver dangerous levels of sh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500"/>
                            </p:stCondLst>
                            <p:childTnLst>
                              <p:par>
                                <p:cTn id="1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3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9.  Further experiments by Milgram helped to identify factors influencing the outcome of destructive obedience.  These included all of the following </a:t>
            </a:r>
            <a:r>
              <a:rPr b="0" i="1" lang="en-US" sz="3200" spc="-1" strike="noStrike">
                <a:solidFill>
                  <a:srgbClr val="e3e3ff"/>
                </a:solidFill>
                <a:latin typeface="Arial"/>
              </a:rPr>
              <a:t>except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hey volunteered to particip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being told the learners were not really being har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the repetitive escalation of the ta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the situation, or context, in which the obedience occu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0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2" dur="2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0.  Milgram did not require his subjects to shock people at the highest level at the beginning, but to build up to it.  He used the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2819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cognitive dissonance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oot-in-the-door phenomen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normative social influ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ocial exchange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0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00"/>
                            </p:stCondLst>
                            <p:childTnLst>
                              <p:par>
                                <p:cTn id="1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1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1. According to social facilitation, if you are a professional golfer, you are likely to perform better if: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you are playing alone with a friendly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no one is watc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you are playing by your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you are playing against competition with a friendly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2" dur="indefinite" restart="never" nodeType="tmRoot">
          <p:childTnLst>
            <p:seq>
              <p:cTn id="1743" dur="indefinite" nodeType="mainSeq">
                <p:childTnLst>
                  <p:par>
                    <p:cTn id="1744" fill="hold">
                      <p:stCondLst>
                        <p:cond delay="0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9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0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2. When people are working in a group on a project rather than individually, there is likely to be less effort by some, called: 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ocial loaf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competi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elf-serving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cognitive disson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500"/>
                            </p:stCondLst>
                            <p:childTnLst>
                              <p:par>
                                <p:cTn id="17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9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3. When a group’s goal of harmony takes precedence over rational decision-making, they become involved in the process of: 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29718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ocial cogni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group polariz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group thin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fundamental attribution er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500"/>
                            </p:stCondLst>
                            <p:childTnLst>
                              <p:par>
                                <p:cTn id="1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4. An example of group polarization i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nservatives become more extreme after listening to conservative talk ra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people believing they were abducted become more convinced after chatting on the internet with other abduct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prejudiced individuals get together and become more prejudi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all of the ab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772400" y="517860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0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341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5. When people lose themselves when in an angry mob, this illustrates the process of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elf-serving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deindivid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group thin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actor-observer discrepanc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9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6" dur="2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4952880"/>
            <a:ext cx="7315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4114800"/>
            <a:ext cx="624852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200400"/>
            <a:ext cx="51055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286000"/>
            <a:ext cx="381024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6172200" y="1371600"/>
            <a:ext cx="25909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Charlesworth"/>
              </a:rPr>
              <a:t>Con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09480" y="990720"/>
            <a:ext cx="19908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2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2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6. Prejudice is defined a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aking negative action toward people who belong to a different social 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speaking badly about people who belong to a different social 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an unjustifiable attitude toward a group and its me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all of the ab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7" dur="indefinite" restart="never" nodeType="tmRoot">
          <p:childTnLst>
            <p:seq>
              <p:cTn id="1938" dur="indefinite" nodeType="mainSeq">
                <p:childTnLst>
                  <p:par>
                    <p:cTn id="1939" fill="hold">
                      <p:stCondLst>
                        <p:cond delay="0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500"/>
                            </p:stCondLst>
                            <p:childTnLst>
                              <p:par>
                                <p:cTn id="19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5" dur="2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7.  The _____ theory offers an explanation that prejudice offers an outlet for anger by providing someone to blame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capeg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prejud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underd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out-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6" dur="indefinite" restart="never" nodeType="tmRoot">
          <p:childTnLst>
            <p:seq>
              <p:cTn id="1977" dur="indefinite" nodeType="mainSeq">
                <p:childTnLst>
                  <p:par>
                    <p:cTn id="1978" fill="hold">
                      <p:stCondLst>
                        <p:cond delay="0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500"/>
                            </p:stCondLst>
                            <p:childTnLst>
                              <p:par>
                                <p:cTn id="19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4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18. Rape victims are sometimes blamed for wearing too revealing clothes and, “getting what they deserved.”  This false conclusion is based on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the just-world hypothes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undamental attribution er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ocial categoriz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ocial exchange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0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500"/>
                            </p:stCondLst>
                            <p:childTnLst>
                              <p:par>
                                <p:cTn id="20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9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3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9. Recent experiments of men viewing violent pornography conclude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his can serve to provide an outlet for bottled-up feelings, thus reducing violent a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this increases violent acts toward wo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there is no effect from viewing violent pornograp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men viewing such films are quickly repulsed by such im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4" dur="indefinite" restart="never" nodeType="tmRoot">
          <p:childTnLst>
            <p:seq>
              <p:cTn id="2055" dur="indefinite" nodeType="mainSeq">
                <p:childTnLst>
                  <p:par>
                    <p:cTn id="2056" fill="hold">
                      <p:stCondLst>
                        <p:cond delay="0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500"/>
                            </p:stCondLst>
                            <p:childTnLst>
                              <p:par>
                                <p:cTn id="20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2" dur="2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0.  “By pursuing our own self-interests and not trusting others, we can end up losers.”  This statement is illustrated in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the Jigsaw Classroo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the in-group, out-group stud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Zimbardo’s prison experi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the social trap g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3" dur="indefinite" restart="never" nodeType="tmRoot">
          <p:childTnLst>
            <p:seq>
              <p:cTn id="2094" dur="indefinite" nodeType="mainSeq">
                <p:childTnLst>
                  <p:par>
                    <p:cTn id="2095" fill="hold">
                      <p:stCondLst>
                        <p:cond delay="0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1" fill="hold">
                            <p:stCondLst>
                              <p:cond delay="500"/>
                            </p:stCondLst>
                            <p:childTnLst>
                              <p:par>
                                <p:cTn id="2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1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1. The deep, affectionate attachment in a lasting, mature love is called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passionate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marital bli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companionate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altru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fill="hold">
                      <p:stCondLst>
                        <p:cond delay="0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500"/>
                            </p:stCondLst>
                            <p:childTnLst>
                              <p:par>
                                <p:cTn id="2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0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2.  Your text mentions two key ingredients to a lasting, loving relationship.  One is equity, the other is: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attractive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compa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elf-disclos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accept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71" dur="indefinite" restart="never" nodeType="tmRoot">
          <p:childTnLst>
            <p:seq>
              <p:cTn id="2172" dur="indefinite" nodeType="mainSeq">
                <p:childTnLst>
                  <p:par>
                    <p:cTn id="2173" fill="hold">
                      <p:stCondLst>
                        <p:cond delay="0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500"/>
                            </p:stCondLst>
                            <p:childTnLst>
                              <p:par>
                                <p:cTn id="2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9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23. Kitty Genovese was killed while others watched and listened.  They knew others were watching.  Their behavior is explained the: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apathy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prosocial behavior phenomen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altru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bystander effe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0" dur="indefinite" restart="never" nodeType="tmRoot">
          <p:childTnLst>
            <p:seq>
              <p:cTn id="2211" dur="indefinite" nodeType="mainSeq">
                <p:childTnLst>
                  <p:par>
                    <p:cTn id="2212" fill="hold">
                      <p:stCondLst>
                        <p:cond delay="0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9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8" dur="2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4: According to the bystander effect, if you needed help you would be more likely to get it if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many people were pre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ew people were pre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omeone else was also help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no one knew 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9" dur="indefinite" restart="never" nodeType="tmRoot">
          <p:childTnLst>
            <p:seq>
              <p:cTn id="2250" dur="indefinite" nodeType="mainSeq">
                <p:childTnLst>
                  <p:par>
                    <p:cTn id="2251" fill="hold">
                      <p:stCondLst>
                        <p:cond delay="0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7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5. According to social exchange theory: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we will help if we expect something in retur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we will help if the cost of helping is not too hi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when we help others we expect them to help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we help those who we feel are     most deserv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0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4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9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6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4952880"/>
            <a:ext cx="7315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4114800"/>
            <a:ext cx="624852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3200400"/>
            <a:ext cx="51055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2286000"/>
            <a:ext cx="381024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5" action="ppaction://hlinksldjump"/>
          </p:cNvPr>
          <p:cNvSpPr/>
          <p:nvPr/>
        </p:nvSpPr>
        <p:spPr>
          <a:xfrm>
            <a:off x="6172200" y="1371600"/>
            <a:ext cx="25909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Charlesworth"/>
              </a:rPr>
              <a:t>It’s just na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228600" y="1371600"/>
            <a:ext cx="3270240" cy="21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343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Up Cre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J. Schulte, Psy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sych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ighth Edition in Mod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David G. M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th Publishers (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892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nswer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80880" y="1523880"/>
          <a:ext cx="2017800" cy="4495680"/>
        </p:xfrm>
        <a:graphic>
          <a:graphicData uri="http://schemas.openxmlformats.org/drawingml/2006/table">
            <a:tbl>
              <a:tblPr/>
              <a:tblGrid>
                <a:gridCol w="990720"/>
                <a:gridCol w="1027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2819520" y="1523880"/>
          <a:ext cx="1904760" cy="4495680"/>
        </p:xfrm>
        <a:graphic>
          <a:graphicData uri="http://schemas.openxmlformats.org/drawingml/2006/table">
            <a:tbl>
              <a:tblPr/>
              <a:tblGrid>
                <a:gridCol w="969840"/>
                <a:gridCol w="9349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5029200" y="1523880"/>
          <a:ext cx="1904760" cy="4495680"/>
        </p:xfrm>
        <a:graphic>
          <a:graphicData uri="http://schemas.openxmlformats.org/drawingml/2006/table">
            <a:tbl>
              <a:tblPr/>
              <a:tblGrid>
                <a:gridCol w="969840"/>
                <a:gridCol w="9349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7238880" y="1523880"/>
          <a:ext cx="1524240" cy="6606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1447920" y="4952880"/>
            <a:ext cx="7315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2514600" y="4114800"/>
            <a:ext cx="624852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3657600" y="3200400"/>
            <a:ext cx="51055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7" action="ppaction://hlinksldjump"/>
          </p:cNvPr>
          <p:cNvSpPr/>
          <p:nvPr/>
        </p:nvSpPr>
        <p:spPr>
          <a:xfrm>
            <a:off x="4952880" y="2286000"/>
            <a:ext cx="381024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8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9" action="ppaction://hlinksldjump"/>
          </p:cNvPr>
          <p:cNvSpPr/>
          <p:nvPr/>
        </p:nvSpPr>
        <p:spPr>
          <a:xfrm>
            <a:off x="6172200" y="1371600"/>
            <a:ext cx="25909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6094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Charlesworth"/>
              </a:rPr>
              <a:t>Do the right 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457200" y="1219320"/>
            <a:ext cx="266400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1. While watching a homeless person beg on the street corner, George thinks, “He must be lazy.  If he would just get a job, he wouldn’t have to beg.”  It is likely George is illustrating: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good judg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undamental attribution er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political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tereotyp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7860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. Asking for a small favor to increase your chances of being successful when asking for a larger one later is called: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bait-and-switch techniq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a con-artist strateg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attitude adjust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the foot-in-the-door phenomen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21:43:08Z</dcterms:created>
  <dc:creator>John J. Schulte</dc:creator>
  <dc:description/>
  <dc:language>en-US</dc:language>
  <cp:lastModifiedBy>User</cp:lastModifiedBy>
  <dcterms:modified xsi:type="dcterms:W3CDTF">2009-09-26T11:12:10Z</dcterms:modified>
  <cp:revision>90</cp:revision>
  <dc:subject/>
  <dc:title>Step Up To:  Psych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